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6875-990C-42BC-A9A0-2E466F64A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579E6AFD-E135-4648-8151-F433DDA5F5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A7B-4EF7-4B5E-94D4-6EDB508F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EC0-00C3-4322-8058-7C069DDF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F32-2F6F-42AE-A1D0-D84181A0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60D-2B2B-4D79-87C4-DB1FD73F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5F5C-E81C-4D22-8D08-3646F9C2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A9BE-2135-4D33-9662-DF65BFC4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C76C-EAA4-404A-B4E4-8F453C19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FF12-C0B2-4AB2-AC01-A7357673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7BF2-4F31-41C1-B9ED-3316FAD6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AF53-B7AE-473B-90C7-A0972F7B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39C3-A4E2-461E-B687-9141E933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89E-CE0B-4565-89B0-D7396D7E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4CF9-4888-497F-8A0B-C07432A1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E35D-D65A-41CE-BBC9-BA7FA25C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B169-1481-4F6A-AC15-B1E7F7D9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083F-ADC6-401B-B31F-B315F2BE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FA22-BA32-4E17-9838-FD3B38FC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666-DC28-4980-874D-C38B8B86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60A-3C74-43FF-BC85-8CCE55C8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07E-D653-4ECB-9466-49136A88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FE2-CE9B-460A-9366-35B93BA3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1DF-E08F-4B34-A71B-B193BAA8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8F7-EB2E-4DDA-8798-016A2496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956-F782-4017-B285-BE7A4605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6C22-1DD9-4DDC-A6D9-9E4FC069B7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6818400" y="0"/>
            <a:ext cx="2325600" cy="801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179280" y="115920"/>
            <a:ext cx="520920" cy="792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826920" y="115920"/>
            <a:ext cx="662040" cy="72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1"/>
          <a:stretch/>
        </p:blipFill>
        <p:spPr>
          <a:xfrm>
            <a:off x="108000" y="6381720"/>
            <a:ext cx="628560" cy="420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828000" y="6308640"/>
            <a:ext cx="9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jeka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nansira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d strane E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2078-3C9B-4B52-A7A7-CBD54F341C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cbcsrb-mne.org/" TargetMode="External"/><Relationship Id="rId3" Type="http://schemas.openxmlformats.org/officeDocument/2006/relationships/hyperlink" Target="http://www.evropa.gov.rs/" TargetMode="External"/><Relationship Id="rId4" Type="http://schemas.openxmlformats.org/officeDocument/2006/relationships/hyperlink" Target="http://www.gov.me/minzaevint/" TargetMode="External"/><Relationship Id="rId5" Type="http://schemas.openxmlformats.org/officeDocument/2006/relationships/hyperlink" Target="http://www.cbccro-mne.org/forum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0" y="0"/>
            <a:ext cx="91440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rekogranični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Srbija – Crna G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INFO D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4.Lokalna kancelari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1532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07552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ffff00"/>
                </a:solidFill>
                <a:latin typeface="Garamond"/>
              </a:rPr>
              <a:t>5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. </a:t>
            </a: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Ostali troškovi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uslu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82296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Struktura budžeta po lokaciji aktiv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42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1A. Ukupno prihvatljivih troškova – prihvatljiva teritorija 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1B. Ukupno prihvatljivih troškova- pridružena teritorija 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1C. Ukupno prihvatljivih troškova- (prihvatljiva+pridružena teritorij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31840" y="2192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40440" y="765000"/>
            <a:ext cx="38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Najčešće greš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" y="1677960"/>
            <a:ext cx="76363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ffffff"/>
                </a:solidFill>
                <a:latin typeface="Garamond"/>
              </a:rPr>
              <a:t>Aritmetičke grešk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ffffff"/>
                </a:solidFill>
                <a:latin typeface="Garamond"/>
              </a:rPr>
              <a:t>Nisu potpisani budže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ffffff"/>
                </a:solidFill>
                <a:latin typeface="Garamond"/>
              </a:rPr>
              <a:t>Neprihvatljivi troškov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ffffff"/>
                </a:solidFill>
                <a:latin typeface="Garamond"/>
              </a:rPr>
              <a:t>Max/min iznos granta/sufinansiranj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31840" y="217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23400" y="8161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itanj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488360" y="5448240"/>
            <a:ext cx="1655640" cy="1409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50920" y="1628640"/>
            <a:ext cx="867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va pitanja/odgovore </a:t>
            </a:r>
            <a:r>
              <a:rPr b="1" lang="sr-Latn-BA" sz="4000" spc="-1" strike="noStrike">
                <a:solidFill>
                  <a:srgbClr val="ffff00"/>
                </a:solidFill>
                <a:latin typeface="Arial"/>
              </a:rPr>
              <a:t>ćete naći na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0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www.cbcsrb-mne.or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0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www.evropa.gov.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0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www.gov.me/minzaevint/</a:t>
            </a:r>
            <a:r>
              <a:rPr b="1" lang="sr-Latn-BA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www.cbccro-mne.org/forum</a:t>
            </a:r>
            <a:r>
              <a:rPr b="1" lang="sr-Latn-BA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31840" y="217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68200" y="2924280"/>
            <a:ext cx="656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Garamond"/>
              </a:rPr>
              <a:t>HVALA NA PA</a:t>
            </a:r>
            <a:r>
              <a:rPr b="0" lang="hr-HR" sz="3000" spc="-1" strike="noStrike">
                <a:solidFill>
                  <a:srgbClr val="ff3300"/>
                </a:solidFill>
                <a:latin typeface="Garamond"/>
              </a:rPr>
              <a:t>ŽNJI </a:t>
            </a:r>
            <a:r>
              <a:rPr b="0" lang="en-US" sz="3000" spc="-1" strike="noStrike">
                <a:solidFill>
                  <a:srgbClr val="ff3300"/>
                </a:solidFill>
                <a:latin typeface="Garamond"/>
              </a:rPr>
              <a:t> I SRE</a:t>
            </a:r>
            <a:r>
              <a:rPr b="0" lang="sr-Latn-BA" sz="3000" spc="-1" strike="noStrike">
                <a:solidFill>
                  <a:srgbClr val="ff3300"/>
                </a:solidFill>
                <a:latin typeface="Garamond"/>
              </a:rPr>
              <a:t>ĆNO!!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Garamond"/>
              </a:rPr>
              <a:t>Logički Okv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371600"/>
            <a:ext cx="1754280" cy="857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bjektivn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provjerljiv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dikato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80880" y="2286000"/>
            <a:ext cx="1729080" cy="8557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pšti cil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2286000" y="2286000"/>
            <a:ext cx="1754280" cy="8557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4191120" y="2286000"/>
            <a:ext cx="1752480" cy="8557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0880" y="3200400"/>
            <a:ext cx="1729080" cy="857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vrh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2286000" y="3200400"/>
            <a:ext cx="1754280" cy="857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4191120" y="3200400"/>
            <a:ext cx="1752480" cy="857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380880" y="4114800"/>
            <a:ext cx="1729080" cy="855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zult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286000" y="4114800"/>
            <a:ext cx="1754280" cy="855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191120" y="4114800"/>
            <a:ext cx="1752480" cy="855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4191120" y="5029200"/>
            <a:ext cx="175248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Troško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6095880" y="2286000"/>
            <a:ext cx="1752840" cy="8557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6095880" y="3200400"/>
            <a:ext cx="1752840" cy="855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095880" y="4114800"/>
            <a:ext cx="1752840" cy="8571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6095880" y="5029200"/>
            <a:ext cx="175284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6095880" y="6000840"/>
            <a:ext cx="1752840" cy="85716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Preduslov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191120" y="1371600"/>
            <a:ext cx="1752480" cy="855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zv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vj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6095880" y="1371600"/>
            <a:ext cx="1752840" cy="855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ahoma"/>
              </a:rPr>
              <a:t>Pretpostavk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380880" y="5029200"/>
            <a:ext cx="172908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ktiv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2286000" y="5029200"/>
            <a:ext cx="175428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Sreds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3"/>
          <p:cNvSpPr/>
          <p:nvPr/>
        </p:nvSpPr>
        <p:spPr>
          <a:xfrm rot="16060200">
            <a:off x="4719240" y="601956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31840" y="2192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41320" y="765000"/>
            <a:ext cx="51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Svrha izrade budže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1557360"/>
            <a:ext cx="74912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nek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Excel tabel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Instrument planiranja i monitorin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Budžet po aplikantu i kumulativni budž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8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roškovi neophodni za izvođenje aktiv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Opšti opis b</a:t>
            </a:r>
            <a:r>
              <a:rPr b="1" lang="sr-CS" sz="3200" spc="-1" strike="noStrike">
                <a:solidFill>
                  <a:srgbClr val="ffff00"/>
                </a:solidFill>
                <a:latin typeface="Garamond"/>
              </a:rPr>
              <a:t>udžet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</a:t>
            </a:r>
            <a:r>
              <a:rPr b="1" lang="sr-CS" sz="3200" spc="-1" strike="noStrike">
                <a:solidFill>
                  <a:srgbClr val="ffff00"/>
                </a:solidFill>
                <a:latin typeface="Garamond"/>
              </a:rPr>
              <a:t> za projek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Budžet se radi u programu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Excel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i sastoji se iz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četiri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elementa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Zajednički budž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Budžet z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o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proje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/ part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Obrazloženje budžeta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Aneks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Izvori finansiranja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Aneks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2)</a:t>
            </a:r>
            <a:r>
              <a:rPr b="0" lang="en-IE" sz="28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4149720"/>
            <a:ext cx="380880" cy="2362320"/>
          </a:xfrm>
          <a:custGeom>
            <a:avLst/>
            <a:gdLst>
              <a:gd name="textAreaLeft" fmla="*/ 0 w 380880"/>
              <a:gd name="textAreaRight" fmla="*/ 137520 w 3808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16"/>
                </a:lnTo>
                <a:cubicBezTo>
                  <a:pt x="10800" y="10016"/>
                  <a:pt x="16200" y="10916"/>
                  <a:pt x="21600" y="10916"/>
                </a:cubicBezTo>
                <a:cubicBezTo>
                  <a:pt x="16200" y="10916"/>
                  <a:pt x="10800" y="11816"/>
                  <a:pt x="10800" y="1271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4076640"/>
            <a:ext cx="2209680" cy="1371600"/>
          </a:xfrm>
          <a:prstGeom prst="wedgeRectCallout">
            <a:avLst>
              <a:gd name="adj1" fmla="val -36421"/>
              <a:gd name="adj2" fmla="val 75694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opunjava i Podnosilac 1 i Podnosilac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Budžet po aplikantu i</a:t>
            </a:r>
            <a:br>
              <a:rPr sz="3600"/>
            </a:b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 kumulativni budž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adni prozor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1- Kum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ulativni budžet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dnosioc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1 i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dnosioc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adni prozor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1 – plavi (budžet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adni prozor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2 – plavi (opravdanje troškova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adni prozor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3 – plavi (očekivani izvori finansiranja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adni prozor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1 – crveni (budžet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adni prozor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2 – crveni (opravdanje troškova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adni prozor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3 – crveni (očekivani izvori finansiranja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1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31840" y="2192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79720" y="765000"/>
            <a:ext cx="44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Struktura budže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57240" y="1628640"/>
            <a:ext cx="8392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Ljudski resur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Putov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Oprema i materij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roškovi lokalne kancelar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Ostali troškovi i uslu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Osta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Međuzbir direktnih prihvatljivih troškova 1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Rezerva za nepredviđene situacije (max 5% od 7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kupan zbir direktnih prihvatljivih troškova (7+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dministrativni troškovi (max 7% od 9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kupan zbir prihvatljivih troškov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1471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IE" sz="3600" spc="-1" strike="noStrike" u="sng">
                <a:solidFill>
                  <a:srgbClr val="ffff00"/>
                </a:solidFill>
                <a:uFillTx/>
                <a:latin typeface="Garamond"/>
              </a:rPr>
              <a:t>1. </a:t>
            </a:r>
            <a:r>
              <a:rPr b="1" lang="sr-CS" sz="3600" spc="-1" strike="noStrike" u="sng">
                <a:solidFill>
                  <a:srgbClr val="ffff00"/>
                </a:solidFill>
                <a:uFillTx/>
                <a:latin typeface="Garamond"/>
              </a:rPr>
              <a:t>Ljudski resurs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0787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582120"/>
            <a:ext cx="8147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2. </a:t>
            </a: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Putovanj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82296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471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3. </a:t>
            </a: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Oprema, materijal i radovi</a:t>
            </a:r>
            <a:r>
              <a:rPr b="1" lang="lt-LT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Budžet za projek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693200" cy="21272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90720" y="4221000"/>
            <a:ext cx="761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Garamond"/>
              </a:rPr>
              <a:t>troškovi kupovine / iznajmljivanja opreme, uslu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Garamond"/>
              </a:rPr>
              <a:t>ako se za potreb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jekta </a:t>
            </a:r>
            <a:r>
              <a:rPr b="1" lang="sr-CS" sz="2400" spc="-1" strike="noStrike">
                <a:solidFill>
                  <a:srgbClr val="ffffff"/>
                </a:solidFill>
                <a:latin typeface="Garamond"/>
              </a:rPr>
              <a:t>moraju kupiti ili iznajmiti dodatne mašine ili oprema, to treba ovd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1" lang="sr-CS" sz="2400" spc="-1" strike="noStrike">
                <a:solidFill>
                  <a:srgbClr val="ffffff"/>
                </a:solidFill>
                <a:latin typeface="Garamond"/>
              </a:rPr>
              <a:t>e prikaz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1:33:57Z</dcterms:created>
  <dc:creator>MithatBahovic</dc:creator>
  <dc:description/>
  <dc:language>en-US</dc:language>
  <cp:lastModifiedBy>MithatBahovic</cp:lastModifiedBy>
  <dcterms:modified xsi:type="dcterms:W3CDTF">2009-07-17T10:38:04Z</dcterms:modified>
  <cp:revision>104</cp:revision>
  <dc:subject/>
  <dc:title>Slide 1</dc:title>
</cp:coreProperties>
</file>